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E4DFE-3F25-4978-9E6C-B751F20AA7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EC554-62CD-462F-8B6E-DAE5E6D3224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48398-D295-4C4D-A14F-66DB7ADC726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7283D-5D2D-419E-BA3B-D25EDCFDA04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F2F09-1D73-400F-A06C-1DF99A1C9E2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2983B-6556-4D14-9F59-E3BD222BFF0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084B0-5684-4E70-ACF2-F98FBE2A2DA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BCEF-9239-4B25-BF46-4D0BC82D0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F056-F329-4A9F-98FE-AE9C99ACA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86077D-4A80-482E-A255-EF60E35C1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3608A1-D98F-47B7-A70B-671356410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F42A9B1-6B12-4AF7-9EBF-C145BC63F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F30E5A-0950-4C9E-8CEE-8C1B3524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808D37-ACCD-489A-BE1C-81886149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2453E8-0C34-4DA6-A6A5-4EC89D5F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068736-1F54-47C4-A8DC-F90E0EECD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DA25E9-D787-49A4-8CE3-2FC8E84E9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9FE124-8E58-4AA4-8693-338BF0739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D30171F-B069-406D-9523-23824F417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C87F-73D4-438D-8C52-1274ECCB0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80352E5-E2EE-4F11-9987-8D70B04ED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1B4830A-59DA-4A71-978D-44B8F759C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18B9330-D5C2-4354-8C21-54654EF70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329B0BC-1FE6-4C3C-907D-02C9B1355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62812AB-BE7C-4648-AFF3-42E2AC21F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EEA2560-BC2B-4546-A16D-40361384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85815D2-7308-40BB-A1A5-9CB09B49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27677BC-4FF5-48AF-88C3-45F48134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1074084-AED0-435E-83D4-1E1E3514F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897249D-D40A-4563-88D1-FAACE433C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2D48-B5C0-4BC0-8803-65F1C5816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598982F-432E-4ED8-BCA6-40E173CF1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31F6F8-2555-4D78-B3FB-1AD48961C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209BBE-A9B7-48C0-BB30-C47AFDCBC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6379B6-8E36-4BFB-BB93-ABA6B2E4E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A564E5-C2C3-4DA5-AF9E-C2DBC6B16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E42020-AEC1-48DE-A166-71F302F0A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6EE450-5937-430A-91E8-C31346657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ED7FEE-D913-45BF-86CD-BAD3AB2B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17EC2C-9068-4B34-9FBA-4CB6298F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8C8FE6-9176-4EA6-9FFC-A9D6991B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A100A9-8902-4F4B-A12E-AB33C6290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72FB2D-CDE7-4C1C-9A79-F8EC900D5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79F549-0A9F-4B4E-8905-E6F256EEA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3ADE3D-2785-4E6C-BEDA-A40FEBBC4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275415-6D27-4E2E-80B0-032A38BA0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B47F38-FD17-462A-8D0A-A05B67A19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E5D47C-B0E1-4475-A105-8689F9C11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A26C0A-ECE6-457F-9072-1D36A8A06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E6A608-3957-49B4-A5D6-8FCFFD3A0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A1C712-B37A-4B11-9861-0A13CAE15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FFC9AF-6CA1-461C-94C9-5EE5A35F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6822B0-3990-4144-BEBE-E09D743DD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88A8C7-3CB2-489D-9B4D-8F57B78B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6E06D0-0228-49BB-BB3A-706E363B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53441A-CDF9-4DE6-8E5F-86FA9D3A1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5BC7D1-D5A2-46B3-BBE0-02C0661C2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AAA92B-8B55-4603-81C0-FCA18E7B1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67DE47-E9D3-4E73-9B03-D514C358F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3FAFE5-6963-4F4E-852E-05F567E75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75E31E-D133-41A3-8527-290A9E92E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6DB9A9-836E-403E-9AB2-8022536E2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70EAF1-4071-4835-A2B1-ADD7C101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4777-0E7B-4726-AC0A-70929B387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A19392-6EAF-48FA-A658-429EB219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9E1B63-1882-4EFC-8CB2-EAFDF89F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540EC7-61D0-4C4F-8AF1-B2D037D3B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7649CD-9918-43DD-A2D6-B5AEC86E9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F45667-316C-4621-A4FB-C165BC78D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B16FFE-549B-486C-AF5A-862BC1C2C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DABE37-74C6-49A2-918C-2A63BECFC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CE2F67-BA33-4B30-8805-60DB276E9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71ECF2-78D8-45E6-BA9B-5023D3433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974B3A-55B1-492D-9272-99D5154DE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1E8F-DFB0-47E9-8B54-39D2C545D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62810C-989F-4A36-803B-4318E2243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4E8191-EA4B-4458-AFCD-67499EA0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4E2F5F-3C9D-46E3-BF3A-C1878F6E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F6533E-6F1D-4AAC-B2E3-B7C264A0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F2A3C5-CDB2-473B-897D-B0164C064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B7F8C6-5582-485E-8B88-D417AF2A5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67C13A-3C4B-4FFA-8B82-7F8F120A2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275912-B18E-447A-9B16-3D9A19107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AA8468-6B42-4EB9-B04E-41070CD08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273FFB-F348-4B9E-A7DF-4DF5ED38E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7AAE-9F22-4A31-BE8C-C544A149E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7B6B8C-A246-46C5-A72B-DE70A44E2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393A64-C265-493D-AD97-595FC1563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267AC4-53D6-427C-B8D1-9515E49F5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969640-B1A2-45F2-B5A9-7905A626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5383C0-1460-42B0-9EBA-03D3476C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CA0210-394C-44CF-B842-C2CE32E0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A8EA27-6F69-426A-A66E-2045B8C2D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ED7638-ABDD-45E0-BB9E-FB3AD3E7C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C13FBA-BAE1-4250-A496-55E981686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2FAC5D-0789-4271-8EA6-3D748CC90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CF7F-3378-4833-B64B-37F6D8186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70FC4C-F479-4296-A81E-71A86945B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DA7012-F0E6-451C-A17D-DDFCC911D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442C81-5AAB-40D5-8FF8-B1B0D12B2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30FACE-E19F-498A-AFE3-0802B23EB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CD63BD-CA5F-41C9-BA41-6BC68CB0E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872CDF-EC2C-4694-B341-D48DD5EA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9272E9-A363-4C2B-A377-5C49BA7B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670FCE-7AAB-41E4-93AD-DC271EFF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68FBEB-B8A6-4E14-ABD7-E2D426195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9AA4F5-0F47-4C3B-8142-970C6829E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1EDD-B6B1-4E7B-8F59-ADC2A7A72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F5337C-925C-4AC0-B35C-303087307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2BD758-A3D2-4CB2-A0AC-86EB3FC1B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0CF63F-C96D-4F7C-A7AB-BA5C18E8C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3155B7-8FF3-49F7-B159-63F617FD5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8310C6-FF5C-4594-9132-519CBEA37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C26BE5-4629-4030-A898-9E3F1E272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668EA3-048A-4CD0-B71B-A2E15E416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301140-E7E6-443A-B692-B5EAD4FD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99752B-8DDF-4EDD-9461-313CE770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2A6F17-E86A-4FFB-8CC9-C3BB7A7F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0F04-C800-42DB-9C75-07EA8CDD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E09E58-C56E-4ADF-90DA-FCF98154C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6286A2-331D-4881-9E19-C7327BE67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602AFC-D8C7-4E75-A6D6-2A3C83F0C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D93733-BBE4-447B-9373-E288C6429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ABBCD8-6663-4C67-96C8-E5DC6DFDE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E65320-2A4A-4970-B3C3-550478E24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03594D-A0AF-46F0-9D9F-323A4BE2E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290C5A-BC9C-4F19-8037-E8E7C6D5C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338118-5BB6-41C0-BAE0-6C49A3A23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DF17E7-2747-42F1-9261-24D0F2AB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6A91-5B73-48B2-97F5-8DE3D6EF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E9C751-463A-401F-9A21-C088CB73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0F1C1F-2633-4D93-94D3-D85D3939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E81980-FCCE-42CF-81F0-E24C53364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824861-4006-412D-9CEB-73704540A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D72964-F597-4DE6-B6B5-C33F0B711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F15871-360B-4C09-9089-CFF06599C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A558BF-8FA9-436F-9624-A4912B494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DF424A-70E9-4179-9A61-42E92239D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18E62E-A1EE-4F40-A629-C53AB7E30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882499-B116-4A6A-A5DB-DD02BCBA6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AECA-8A9A-46FB-9930-B5434CEC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1623F6-1B3C-44FE-B66E-662CDC922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501049-4927-4995-9940-02E801ED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19F404-D449-4DE0-9240-AD246A68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5FCCDB-E42C-4943-A664-89537120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2B5534-E98A-47B5-818B-D86A53218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424F7E-6CB1-4663-B701-4B1E4A206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95B3B4-65F0-49A9-ABD1-28D9C5EEE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C908B8-752B-4317-8632-BF6B19313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B5AFC7-46E4-4DB6-9E34-0DA85ED86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A34F55-4491-484A-91FE-DC01AADFF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5461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5461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5461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5461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88F80-7E10-4386-B696-92162EDE094E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3e6e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3" name="Rectangle 7"/>
          <p:cNvSpPr/>
          <p:nvPr/>
        </p:nvSpPr>
        <p:spPr>
          <a:xfrm>
            <a:off x="0" y="5734080"/>
            <a:ext cx="9144000" cy="1123920"/>
          </a:xfrm>
          <a:prstGeom prst="rect">
            <a:avLst/>
          </a:prstGeom>
          <a:solidFill>
            <a:srgbClr val="83899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4" name="Straight Connector 8"/>
          <p:cNvSpPr/>
          <p:nvPr/>
        </p:nvSpPr>
        <p:spPr>
          <a:xfrm>
            <a:off x="0" y="5695920"/>
            <a:ext cx="9144000" cy="1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5461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5461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5461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5461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8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sldNum" idx="29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F3094-ED50-485C-9293-6C338FAE6F02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30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3e6e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5461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5461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5461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5461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31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32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33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A66C5-F526-4E00-8F76-BD59430336C9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3e6e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5461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5461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5461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5461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4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5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6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7908E-E8CD-4419-B608-6B4363DBCE21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4743360"/>
            <a:ext cx="9144000" cy="2114640"/>
          </a:xfrm>
          <a:prstGeom prst="rect">
            <a:avLst/>
          </a:prstGeom>
          <a:solidFill>
            <a:srgbClr val="83899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0" y="4714920"/>
            <a:ext cx="9144000" cy="1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5461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5461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5461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5461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681CE-E1F9-46EE-8121-4E7E2BAC7038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3e6e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5461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5461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5461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5461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AEE36-166B-4090-8CFE-8559C65241BE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3e6e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solidFill>
            <a:srgbClr val="83899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Straight Connector 8"/>
          <p:cNvSpPr/>
          <p:nvPr/>
        </p:nvSpPr>
        <p:spPr>
          <a:xfrm>
            <a:off x="-4680" y="1828800"/>
            <a:ext cx="9144000" cy="1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5461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5461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5461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5461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11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F5222-84AE-4464-ACE9-85E25CCA6F14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2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3e6e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5461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5461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5461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5461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14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62FCF-B01A-4E6D-A92B-62F117AAB390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5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3e6e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5461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5461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5461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5461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sldNum" idx="17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ACA83-F54D-44FF-A0E6-39EF14DA6F87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8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3e6e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5461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5461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5461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5461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20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1B414-FE0C-4C05-AE58-3120EB0CD988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1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3e6e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5461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5461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5461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5461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2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sldNum" idx="23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AE8FC-DB59-4781-AC00-24999F3923CE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ftr" idx="24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3e6e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0" y="5734080"/>
            <a:ext cx="9144000" cy="1123920"/>
          </a:xfrm>
          <a:prstGeom prst="rect">
            <a:avLst/>
          </a:prstGeom>
          <a:solidFill>
            <a:srgbClr val="83899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0" name="Straight Connector 8"/>
          <p:cNvSpPr/>
          <p:nvPr/>
        </p:nvSpPr>
        <p:spPr>
          <a:xfrm>
            <a:off x="0" y="5695920"/>
            <a:ext cx="9144000" cy="1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5461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5461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5461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5461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5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sldNum" idx="26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4A00E-DEB4-4A12-AD67-53DB725F63CB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ftr" idx="27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Diagram 7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8321760" cy="3047760"/>
          </a:xfrm>
          <a:prstGeom prst="rect">
            <a:avLst/>
          </a:prstGeom>
          <a:ln w="0">
            <a:noFill/>
          </a:ln>
        </p:spPr>
      </p:pic>
      <p:pic>
        <p:nvPicPr>
          <p:cNvPr id="518" name="Diagram 8" descr=""/>
          <p:cNvPicPr/>
          <p:nvPr/>
        </p:nvPicPr>
        <p:blipFill>
          <a:blip r:embed="rId2"/>
          <a:stretch/>
        </p:blipFill>
        <p:spPr>
          <a:xfrm>
            <a:off x="225360" y="3438360"/>
            <a:ext cx="8321760" cy="31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TextBox 1"/>
          <p:cNvSpPr/>
          <p:nvPr/>
        </p:nvSpPr>
        <p:spPr>
          <a:xfrm>
            <a:off x="191880" y="111240"/>
            <a:ext cx="27212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1b24cf"/>
                </a:solidFill>
                <a:latin typeface="Articulate Extrabold"/>
              </a:rPr>
              <a:t>Introduction</a:t>
            </a: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20" name="Picture 2" descr="C:\Users\Owner\AppData\Local\Microsoft\Windows\Temporary Internet Files\Content.IE5\BK0RA2J1\MC900432675[1].png"/>
          <p:cNvPicPr/>
          <p:nvPr/>
        </p:nvPicPr>
        <p:blipFill>
          <a:blip r:embed="rId1"/>
          <a:stretch/>
        </p:blipFill>
        <p:spPr>
          <a:xfrm>
            <a:off x="8308800" y="613584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521" name="TextBox 3"/>
          <p:cNvSpPr/>
          <p:nvPr/>
        </p:nvSpPr>
        <p:spPr>
          <a:xfrm>
            <a:off x="380880" y="1066680"/>
            <a:ext cx="837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b24cf"/>
                </a:solidFill>
                <a:latin typeface="Verdana"/>
                <a:ea typeface="Verdana"/>
              </a:rPr>
              <a:t>Insert information here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Box 1"/>
          <p:cNvSpPr/>
          <p:nvPr/>
        </p:nvSpPr>
        <p:spPr>
          <a:xfrm>
            <a:off x="216720" y="111240"/>
            <a:ext cx="3577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1b24cf"/>
                </a:solidFill>
                <a:latin typeface="Articulate Extrabold"/>
              </a:rPr>
              <a:t>Goals/Objectives</a:t>
            </a: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23" name="Picture 2" descr="C:\Users\Owner\AppData\Local\Microsoft\Windows\Temporary Internet Files\Content.IE5\BK0RA2J1\MC900432675[1].png"/>
          <p:cNvPicPr/>
          <p:nvPr/>
        </p:nvPicPr>
        <p:blipFill>
          <a:blip r:embed="rId1"/>
          <a:stretch/>
        </p:blipFill>
        <p:spPr>
          <a:xfrm>
            <a:off x="8377200" y="614988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524" name="TextBox 3"/>
          <p:cNvSpPr/>
          <p:nvPr/>
        </p:nvSpPr>
        <p:spPr>
          <a:xfrm>
            <a:off x="380880" y="1066680"/>
            <a:ext cx="837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b24cf"/>
                </a:solidFill>
                <a:latin typeface="Verdana"/>
                <a:ea typeface="Verdana"/>
              </a:rPr>
              <a:t>Insert information here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Box 1"/>
          <p:cNvSpPr/>
          <p:nvPr/>
        </p:nvSpPr>
        <p:spPr>
          <a:xfrm>
            <a:off x="513360" y="111240"/>
            <a:ext cx="7706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1b24cf"/>
                </a:solidFill>
                <a:latin typeface="Articulate Extrabold"/>
              </a:rPr>
              <a:t>Instructional Strategies and Activities</a:t>
            </a: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26" name="Picture 2" descr="C:\Users\Owner\AppData\Local\Microsoft\Windows\Temporary Internet Files\Content.IE5\BK0RA2J1\MC900432675[1].png"/>
          <p:cNvPicPr/>
          <p:nvPr/>
        </p:nvPicPr>
        <p:blipFill>
          <a:blip r:embed="rId1"/>
          <a:stretch/>
        </p:blipFill>
        <p:spPr>
          <a:xfrm>
            <a:off x="8377200" y="614988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527" name="TextBox 3"/>
          <p:cNvSpPr/>
          <p:nvPr/>
        </p:nvSpPr>
        <p:spPr>
          <a:xfrm>
            <a:off x="380880" y="1066680"/>
            <a:ext cx="837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b24cf"/>
                </a:solidFill>
                <a:latin typeface="Verdana"/>
                <a:ea typeface="Verdana"/>
              </a:rPr>
              <a:t>Insert information here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Box 1"/>
          <p:cNvSpPr/>
          <p:nvPr/>
        </p:nvSpPr>
        <p:spPr>
          <a:xfrm>
            <a:off x="434880" y="111240"/>
            <a:ext cx="2806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1b24cf"/>
                </a:solidFill>
                <a:latin typeface="Articulate Extrabold"/>
              </a:rPr>
              <a:t>Assessments</a:t>
            </a: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29" name="Picture 2" descr="C:\Users\Owner\AppData\Local\Microsoft\Windows\Temporary Internet Files\Content.IE5\BK0RA2J1\MC900432675[1].png"/>
          <p:cNvPicPr/>
          <p:nvPr/>
        </p:nvPicPr>
        <p:blipFill>
          <a:blip r:embed="rId1"/>
          <a:stretch/>
        </p:blipFill>
        <p:spPr>
          <a:xfrm>
            <a:off x="8377200" y="614988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530" name="TextBox 3"/>
          <p:cNvSpPr/>
          <p:nvPr/>
        </p:nvSpPr>
        <p:spPr>
          <a:xfrm>
            <a:off x="380880" y="1066680"/>
            <a:ext cx="837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b24cf"/>
                </a:solidFill>
                <a:latin typeface="Verdana"/>
                <a:ea typeface="Verdana"/>
              </a:rPr>
              <a:t>Insert information here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Box 1"/>
          <p:cNvSpPr/>
          <p:nvPr/>
        </p:nvSpPr>
        <p:spPr>
          <a:xfrm>
            <a:off x="541800" y="111240"/>
            <a:ext cx="41979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1b24cf"/>
                </a:solidFill>
                <a:latin typeface="Articulate Extrabold"/>
              </a:rPr>
              <a:t>Program Evaluation</a:t>
            </a: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32" name="Picture 2" descr="C:\Users\Owner\AppData\Local\Microsoft\Windows\Temporary Internet Files\Content.IE5\BK0RA2J1\MC900432675[1].png"/>
          <p:cNvPicPr/>
          <p:nvPr/>
        </p:nvPicPr>
        <p:blipFill>
          <a:blip r:embed="rId1"/>
          <a:stretch/>
        </p:blipFill>
        <p:spPr>
          <a:xfrm>
            <a:off x="8377200" y="614988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533" name="TextBox 3"/>
          <p:cNvSpPr/>
          <p:nvPr/>
        </p:nvSpPr>
        <p:spPr>
          <a:xfrm>
            <a:off x="380880" y="1066680"/>
            <a:ext cx="837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b24cf"/>
                </a:solidFill>
                <a:latin typeface="Verdana"/>
                <a:ea typeface="Verdana"/>
              </a:rPr>
              <a:t>Insert information here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2" descr="C:\Users\Owner\AppData\Local\Microsoft\Windows\Temporary Internet Files\Content.IE5\BK0RA2J1\MC900432675[1].png"/>
          <p:cNvPicPr/>
          <p:nvPr/>
        </p:nvPicPr>
        <p:blipFill>
          <a:blip r:embed="rId1"/>
          <a:stretch/>
        </p:blipFill>
        <p:spPr>
          <a:xfrm>
            <a:off x="8377200" y="614988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535" name="TextBox 3"/>
          <p:cNvSpPr/>
          <p:nvPr/>
        </p:nvSpPr>
        <p:spPr>
          <a:xfrm>
            <a:off x="426600" y="111240"/>
            <a:ext cx="2412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1b24cf"/>
                </a:solidFill>
                <a:latin typeface="Articulate Extrabold"/>
              </a:rPr>
              <a:t>Conclusion</a:t>
            </a: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6" name="TextBox 4"/>
          <p:cNvSpPr/>
          <p:nvPr/>
        </p:nvSpPr>
        <p:spPr>
          <a:xfrm>
            <a:off x="380880" y="1066680"/>
            <a:ext cx="837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b24cf"/>
                </a:solidFill>
                <a:latin typeface="Verdana"/>
                <a:ea typeface="Verdana"/>
              </a:rPr>
              <a:t>Insert information here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2T01:44:40Z</dcterms:created>
  <dc:creator>Ann M Gall</dc:creator>
  <dc:description/>
  <dc:language>en-US</dc:language>
  <cp:lastModifiedBy>Ann M Gall</cp:lastModifiedBy>
  <dcterms:modified xsi:type="dcterms:W3CDTF">2011-06-12T04:52:06Z</dcterms:modified>
  <cp:revision>18</cp:revision>
  <dc:subject/>
  <dc:title>PowerPoint Presentation</dc:title>
</cp:coreProperties>
</file>